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.jpeg" ContentType="image/jpeg"/>
  <Override PartName="/ppt/media/Continue%20to%20be%20-%20David%20Arkenstone.wav" ContentType="audio/x-wav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A9D-FFB8-43D4-B575-E5F5918B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078-18A1-4D5C-BCE3-DBB377F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BF8-9C16-4798-A9F9-55FC67AE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4D5-02CA-41E1-97ED-28FCADA6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366-AAD7-4545-8729-258B6522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D8A-744A-4329-980F-70BF4E2A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33C9-B7E2-4677-A6B1-7585C574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F58-C6B1-4882-BA51-10AC765C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51C-A6EC-482B-B106-461D02C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ADB-61A2-4C82-930B-4EA36194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4E0-251E-4D70-9C8B-583F087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772-1243-4FB2-BB4A-ADAD271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0F3-1E43-41DC-A95D-2288CA58B1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ontinue%20to%20be%20-%20David%20Arkenston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0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image" Target="../media/image20.gif"/><Relationship Id="rId21" Type="http://schemas.openxmlformats.org/officeDocument/2006/relationships/image" Target="../media/image20.gif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560"/>
            <a:ext cx="81025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ccff"/>
                </a:solidFill>
                <a:latin typeface="Arial"/>
              </a:rPr>
              <a:t>BLUE BEAUTY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ccccff"/>
                </a:solidFill>
                <a:latin typeface="Arial"/>
              </a:rPr>
              <a:t>Photos by Astronaut Sunita Willi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0000"/>
                </a:solidFill>
                <a:latin typeface="Verdana"/>
              </a:rPr>
              <a:t>SPECTACULA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205000"/>
            <a:ext cx="8642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Satellite photo of Europe and Africa at night on a cloudless 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ghts are already on in Paris, Barcelona but not in London, Lisbon or Madrid, where there is still dayligh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see the Azores in the middle of the ocean.  A little below Madeira and further Canary Islands and Cape Ver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You can observe the continent platforms from the British Isles to Canada and Iceland in the midd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64000" y="2276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747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Ice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12000" y="33400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115920"/>
            <a:ext cx="201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Continen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2720" y="764640"/>
            <a:ext cx="43164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6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Eng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ÁF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9080" y="24210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836640"/>
            <a:ext cx="35856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620640"/>
            <a:ext cx="287640" cy="72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668720" y="3141720"/>
            <a:ext cx="28764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50532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cc00"/>
                </a:solidFill>
                <a:latin typeface="Arial"/>
              </a:rPr>
              <a:t>Already night time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29242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763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3300"/>
                </a:solidFill>
                <a:latin typeface="Arial"/>
              </a:rPr>
              <a:t>Sp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5760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9440" y="148428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1055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00"/>
                </a:solidFill>
                <a:latin typeface="Arial"/>
              </a:rPr>
              <a:t>Cabo Verde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41008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191120"/>
            <a:ext cx="863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038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Canary Isl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0800" y="2565360"/>
            <a:ext cx="25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las de la Madera y Az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2852640"/>
            <a:ext cx="14436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54864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70440" y="5369040"/>
            <a:ext cx="347400" cy="2728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1480" y="4292640"/>
            <a:ext cx="304560" cy="433440"/>
          </a:xfrm>
          <a:custGeom>
            <a:avLst/>
            <a:gdLst/>
            <a:ahLst/>
            <a:rect l="l" t="t" r="r" b="b"/>
            <a:pathLst>
              <a:path w="192" h="273">
                <a:moveTo>
                  <a:pt x="0" y="0"/>
                </a:moveTo>
                <a:lnTo>
                  <a:pt x="192" y="273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962520"/>
            <a:ext cx="333360" cy="4824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562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304812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99ff"/>
                </a:solidFill>
                <a:latin typeface="Times New Roman"/>
              </a:rPr>
              <a:t>Atlan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76440" y="1225440"/>
            <a:ext cx="582840" cy="1800"/>
          </a:xfrm>
          <a:custGeom>
            <a:avLst/>
            <a:gdLst/>
            <a:ahLst/>
            <a:rect l="l" t="t" r="r" b="b"/>
            <a:pathLst>
              <a:path w="367" h="1">
                <a:moveTo>
                  <a:pt x="36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7621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zilian Continental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NIGHTFALL IN 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81280" y="5562720"/>
            <a:ext cx="457200" cy="3045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7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Grande São Pa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5410080"/>
            <a:ext cx="533520" cy="7632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io de Jan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533520" cy="22860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3276720"/>
            <a:ext cx="457200" cy="152280"/>
          </a:xfrm>
          <a:custGeom>
            <a:avLst/>
            <a:gdLst/>
            <a:ahLst/>
            <a:rect l="l" t="t" r="r" b="b"/>
            <a:pathLst>
              <a:path w="172" h="148">
                <a:moveTo>
                  <a:pt x="172" y="14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Sal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Rec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0" y="2424240"/>
            <a:ext cx="420480" cy="112680"/>
          </a:xfrm>
          <a:custGeom>
            <a:avLst/>
            <a:gdLst/>
            <a:ahLst/>
            <a:rect l="l" t="t" r="r" b="b"/>
            <a:pathLst>
              <a:path w="265" h="71">
                <a:moveTo>
                  <a:pt x="265" y="0"/>
                </a:moveTo>
                <a:lnTo>
                  <a:pt x="0" y="71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209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ortal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905120" y="3351960"/>
            <a:ext cx="1371600" cy="83844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Goiâ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828800" y="3962520"/>
            <a:ext cx="1295280" cy="45720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Uberlâ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09680" y="4571280"/>
            <a:ext cx="1067040" cy="15228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Belo Horizo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962520" y="4800600"/>
            <a:ext cx="761760" cy="7632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6172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cc00"/>
                </a:solidFill>
                <a:latin typeface="Times New Roman"/>
              </a:rPr>
              <a:t>Florianó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6019920"/>
            <a:ext cx="457200" cy="304560"/>
          </a:xfrm>
          <a:custGeom>
            <a:avLst/>
            <a:gdLst/>
            <a:ahLst/>
            <a:rect l="l" t="t" r="r" b="b"/>
            <a:pathLst>
              <a:path w="219" h="172">
                <a:moveTo>
                  <a:pt x="219" y="17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9560" y="2971800"/>
            <a:ext cx="2438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IGHTFALL IN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ANDSTORM LEAVING NORTH AFRICA TOWARDS THE ATLANTIC – CANARY 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298116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25909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The biggest concentration of lights (from top to bottom) are the cities of Boston, New York, Philadelphia and Washing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029200"/>
            <a:ext cx="371520" cy="149400"/>
          </a:xfrm>
          <a:custGeom>
            <a:avLst/>
            <a:gdLst/>
            <a:ahLst/>
            <a:rect l="l" t="t" r="r" b="b"/>
            <a:pathLst>
              <a:path w="234" h="94">
                <a:moveTo>
                  <a:pt x="234" y="9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0"/>
            <a:ext cx="333360" cy="482760"/>
          </a:xfrm>
          <a:custGeom>
            <a:avLst/>
            <a:gdLst/>
            <a:ahLst/>
            <a:rect l="l" t="t" r="r" b="b"/>
            <a:pathLst>
              <a:path w="210" h="304">
                <a:moveTo>
                  <a:pt x="210" y="30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Hou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5600" y="4145040"/>
            <a:ext cx="495360" cy="369720"/>
          </a:xfrm>
          <a:custGeom>
            <a:avLst/>
            <a:gdLst/>
            <a:ahLst/>
            <a:rect l="l" t="t" r="r" b="b"/>
            <a:pathLst>
              <a:path w="312" h="233">
                <a:moveTo>
                  <a:pt x="0" y="233"/>
                </a:moveTo>
                <a:lnTo>
                  <a:pt x="312" y="0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D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6520" y="2548080"/>
            <a:ext cx="432000" cy="172800"/>
          </a:xfrm>
          <a:custGeom>
            <a:avLst/>
            <a:gdLst/>
            <a:ahLst/>
            <a:rect l="l" t="t" r="r" b="b"/>
            <a:pathLst>
              <a:path w="272" h="109">
                <a:moveTo>
                  <a:pt x="0" y="0"/>
                </a:moveTo>
                <a:lnTo>
                  <a:pt x="272" y="109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2276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800" y="2895480"/>
            <a:ext cx="61920" cy="297000"/>
          </a:xfrm>
          <a:custGeom>
            <a:avLst/>
            <a:gdLst/>
            <a:ahLst/>
            <a:rect l="l" t="t" r="r" b="b"/>
            <a:pathLst>
              <a:path w="39" h="187">
                <a:moveTo>
                  <a:pt x="0" y="0"/>
                </a:moveTo>
                <a:lnTo>
                  <a:pt x="39" y="1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Times New Roman"/>
              </a:rPr>
              <a:t>Still daylight in Califor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1341360"/>
            <a:ext cx="231840" cy="77328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06880" y="46530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ue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5013360"/>
            <a:ext cx="231480" cy="772920"/>
          </a:xfrm>
          <a:custGeom>
            <a:avLst/>
            <a:gdLst/>
            <a:ahLst/>
            <a:rect l="l" t="t" r="r" b="b"/>
            <a:pathLst>
              <a:path w="146" h="487">
                <a:moveTo>
                  <a:pt x="146" y="0"/>
                </a:moveTo>
                <a:lnTo>
                  <a:pt x="0" y="487"/>
                </a:lnTo>
              </a:path>
            </a:pathLst>
          </a:custGeom>
          <a:noFill/>
          <a:ln w="9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014200"/>
            <a:ext cx="777240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66ff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657600" y="61722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TRANSLATION TO ENGLISH AND EDITED MSW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564000" y="3860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3851280" y="3068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4211640" y="429264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5148360" y="4005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4284720" y="37893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492360" y="3429000"/>
            <a:ext cx="508320" cy="49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3348000" y="292428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1"/>
          <a:stretch/>
        </p:blipFill>
        <p:spPr>
          <a:xfrm>
            <a:off x="5580000" y="32130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2"/>
          <a:stretch/>
        </p:blipFill>
        <p:spPr>
          <a:xfrm rot="6025800">
            <a:off x="3994920" y="2707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 rot="6025800">
            <a:off x="4923720" y="3292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4"/>
          <a:stretch/>
        </p:blipFill>
        <p:spPr>
          <a:xfrm rot="6025800">
            <a:off x="3699720" y="444456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 rot="6025800">
            <a:off x="4707720" y="430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 rot="6025800">
            <a:off x="5715720" y="3796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 rot="6025800">
            <a:off x="5715720" y="2860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 rot="6025800">
            <a:off x="6003360" y="2788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 rot="6025800">
            <a:off x="3050640" y="358092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0"/>
          <a:stretch/>
        </p:blipFill>
        <p:spPr>
          <a:xfrm rot="6025800">
            <a:off x="3268080" y="4084200"/>
            <a:ext cx="507960" cy="492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1"/>
          <a:stretch/>
        </p:blipFill>
        <p:spPr>
          <a:xfrm rot="6025800">
            <a:off x="2691720" y="3941280"/>
            <a:ext cx="507960" cy="492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38080" y="2286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Isn’t this magic ?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So our children can enjoy these spectacular views for a long time, please forward this message to as many people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IBRALTAR S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88000" y="638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NIGHT ARRIVES 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BETWEEN EUROPE &amp;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SS AL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CE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CK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228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OUR PLANET IN THE MIDDLE OF THE UNIVERSE AT 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8:47:51Z</dcterms:created>
  <dc:creator>JM</dc:creator>
  <dc:description/>
  <dc:language>en-US</dc:language>
  <cp:lastModifiedBy>Hugh Rountree</cp:lastModifiedBy>
  <dcterms:modified xsi:type="dcterms:W3CDTF">2008-02-28T01:32:56Z</dcterms:modified>
  <cp:revision>2</cp:revision>
  <dc:subject/>
  <dc:title>Slide 1</dc:title>
</cp:coreProperties>
</file>